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2C8-0017-4CD8-BE3C-9DCF93F6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6BBE-53BA-4EE0-A4C2-B08AAE15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4B4D-734F-4AAA-80F6-A81A81B6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9BF0-5630-4929-A534-E2B3846D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862C-0D3F-414A-AC2A-1EC78269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1392-2D4E-4DE9-9B52-4868B4AC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45D1-B826-4BFF-8C14-69F9E75A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C447-57CD-48D3-8FEF-8A9A748F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09F2-49B0-46A5-96DB-1281256A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CF5F-B2F1-4DD1-A7CA-18CACAE2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A951-348B-413B-9360-64F0CDF5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344D-D3CB-4D4A-9B88-1F47AA7D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02BC-907A-4424-9139-E096E0A7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E33C-5FF7-4D85-BB2F-4C9987DF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BCE0-2136-4272-A83C-89FF62B5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90A4-B023-4EA8-BCE5-F81D9A47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C946-212D-4E08-8408-189F831C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30E9-8C22-4030-AF0B-CAF96FFF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2F50-FE6E-4F10-BAEC-DF197F7C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D398-4BB2-4608-8E56-12519FE0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D42-6DF1-4781-B89D-4240E7EB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F626-E02F-4C54-93B1-0F048146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AD99-10A5-4E71-A7F6-F3A575B1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F725-91AE-4958-836B-6D67A45F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F71A-8051-44AB-BF89-24B1CD554EA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30DA-AE70-4E86-B40A-5411F7D8F3E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Black"/>
              </a:rPr>
              <a:t>O Natal no mundo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 advTm="3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dos Uni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véspera de Natal os vizinhos se unem para cantar canções, mostrando o espírito de confraternização. As crianças penduram meias na larei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076720" y="4221000"/>
            <a:ext cx="2371680" cy="1933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n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crianças da Índia decoram pés de manga e bananeiras no Natal. Pequenas lâmpadas de argila servem para decorar as cas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067280" y="407664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tug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 Natal é ligado ao nosso, com missa e ceia. As crianças esperam Papai Noel colocar presentes em seus sapa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72360" y="115920"/>
            <a:ext cx="2133360" cy="2143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00000" y="4149720"/>
            <a:ext cx="2133720" cy="21430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Belé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A cidade onde JESUS nasceu. O Natal é comemorado com peregrinos e tribos árabes, que se ajoelham na crípta dos franciscanos para adorar um berç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716360" y="4437000"/>
            <a:ext cx="2667240" cy="17146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gundo a tradição, esse é o berço de JES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187632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96000" y="3500280"/>
            <a:ext cx="2419200" cy="18957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22:40:55Z</dcterms:created>
  <dc:creator>VALERIA</dc:creator>
  <dc:description/>
  <dc:language>en-US</dc:language>
  <cp:lastModifiedBy>VALERIA</cp:lastModifiedBy>
  <dcterms:modified xsi:type="dcterms:W3CDTF">2010-12-02T20:42:31Z</dcterms:modified>
  <cp:revision>3</cp:revision>
  <dc:subject/>
  <dc:title>O Natal no mundo</dc:title>
</cp:coreProperties>
</file>